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B84-F3EA-498D-A342-077C67FD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BB8-DBB2-4A9F-BF0E-A548F215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7B5-0B22-47B6-8F3B-23DD3218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A6F-2137-4443-8824-D42EFBB1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6CB-4CF8-4930-B2E5-D6BD596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E42-832E-4C69-A45A-6B9BC10F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C9F-A72C-4ECD-8699-4529DB10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AE9-F4B5-4889-AC41-ACE741EE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CF7-0DFA-41BF-8A8B-9F52B9B5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E56-34BC-4950-930A-AE4511EE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743-BF6E-4F03-9BA1-FB7F259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E05-9272-4630-8FAB-7BF9C6C9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C72E-C6E3-4CE3-809E-614BF40D74C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5 Dom ten je vždy požehna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m ten je vždy požehna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torom láska prebý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sŕdc Bohu odovzdan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ý spev sa ozý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sa všetci svorne s lásk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ia Pána poslúch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býva tam vecou ťaž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ni krivdy odpúšť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rád žehná také d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é ctia si rodič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na jar svieže kve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mova sú ozdobou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27:13Z</dcterms:modified>
  <cp:revision>76</cp:revision>
  <dc:subject/>
  <dc:title>Je veľký náš Pán, on slávy je Kráľ Nech do všetkých strán  spev vrúcnych znie chvál.</dc:title>
</cp:coreProperties>
</file>